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0C4-0976-4745-9625-8BE433F9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18B-D869-4E1E-AA93-DDD21DF5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A4E-2131-4960-BF62-8ABB1245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E5D-CC80-40C8-8823-EE70A0F6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CC87-A762-4667-A73F-C132A4E4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3FCD-374A-48A3-BB1B-502594F0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DBD6-F770-4D8F-884A-36690691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120D-E53F-4E23-9A8C-A73FA3F2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6DB1-C9CF-4465-A428-49EC61EB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F14E-70FE-4865-B60E-57B4D81D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66CC-01B3-492A-BAEC-34E48A84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1A5-67D4-4A73-A32F-1D61C780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DFB8-FD96-45E6-B891-31B482D6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4E42-849A-4F00-82A2-48F58385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99B3-5678-43B1-8807-EEB520FA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08A8-0687-4852-A61D-05DF9ADF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5426-AB50-4D99-9596-7BDB5871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42A-3B73-49BB-B027-4644C3F1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9D8-3959-4EE2-9FCB-45B44EAE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96C-D854-4C74-863F-EC04FEAB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B0D-D72E-4459-9841-FB980035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D9F-6893-4359-9444-5CA22F1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437-A083-439B-B130-8990A2D1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3E1-7065-4F2D-B839-1B6E830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D600-8BA3-45AD-9B53-0AE554203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57FA-E344-4CC9-BAA3-AA6A2EC7F292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eam Awesome += 5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960"/>
            <a:ext cx="7924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PICo Design Presentatio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ouglas Grosvenor, Terence Crumbley, Jeffrey Gaither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ulse Generat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9144000" cy="193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484360" y="1125360"/>
            <a:ext cx="42213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ulse Sign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lue – Input sig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range – Output sig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70358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ord Line Generat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7" name="Rectangle 7" descr=""/>
          <p:cNvPicPr/>
          <p:nvPr/>
        </p:nvPicPr>
        <p:blipFill>
          <a:blip r:embed="rId2"/>
          <a:stretch/>
        </p:blipFill>
        <p:spPr>
          <a:xfrm>
            <a:off x="0" y="3362400"/>
            <a:ext cx="9144000" cy="3495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19280" y="1197000"/>
            <a:ext cx="540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6 to 64 Decod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2478240" cy="558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15238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esting</a:t>
            </a:r>
            <a:br>
              <a:rPr sz="4400"/>
            </a:b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pproach On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rner Simul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our Bitcell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C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Based on extracted layou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pproach Tw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ull word, read/wri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ctive/Inactiv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ifferent word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of Read/Writ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709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nalysi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ow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rea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rea*(Delay^2)*Pow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067280" y="1557360"/>
          <a:ext cx="4681080" cy="3286080"/>
        </p:xfrm>
        <a:graphic>
          <a:graphicData uri="http://schemas.openxmlformats.org/drawingml/2006/table">
            <a:tbl>
              <a:tblPr/>
              <a:tblGrid>
                <a:gridCol w="1835280"/>
                <a:gridCol w="28458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ric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5e11 mW*n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cell are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.4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e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M 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.43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39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005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s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ense Amp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1573200"/>
            <a:ext cx="8208720" cy="528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260280"/>
            <a:ext cx="27572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s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2 to 4 Decod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1238400"/>
            <a:ext cx="6800760" cy="561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77080" y="0"/>
            <a:ext cx="2116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2 to 4 Enable Dec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2238480"/>
            <a:ext cx="8372160" cy="4619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659640" y="0"/>
            <a:ext cx="2317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itcel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1252440"/>
            <a:ext cx="7056360" cy="560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443640" y="549360"/>
            <a:ext cx="24732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490760"/>
            <a:ext cx="91440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cont’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6920" y="1262160"/>
            <a:ext cx="76424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cont’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48836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nse Am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iring problem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ICo SRA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ow pow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1 Mb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Long lifetim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etric: (Total Power)^2 * Delay * Are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igh spee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64 kb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Encryption/Compression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etric: (Total Power) * Delay^2 * Are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32bit wor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2 words per ro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64 rows per blo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4096 bits per blo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16 blocks arra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rray Diagra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688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lock Diagra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6920" y="1162080"/>
            <a:ext cx="74566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itcell Layou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sign Cont’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ad/Write Signal System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ulse Generator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L Generato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cod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Read/Write Signal Syste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>Doug</dc:creator>
  <dc:description/>
  <dc:language>en-US</dc:language>
  <cp:lastModifiedBy>labtemp</cp:lastModifiedBy>
  <dcterms:modified xsi:type="dcterms:W3CDTF">2007-12-06T19:02:52Z</dcterms:modified>
  <cp:revision>1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